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Calibri"/>
              </a:rPr>
              <a:t>Click to move the slide</a:t>
            </a: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ftr" idx="3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E9E83-DA90-408E-93DD-05B64458E7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D379D-6050-468C-A006-965487800C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6526A-DE2E-4544-A0F6-49D433EA4F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B4818-2D64-4B7E-A2C0-E15FFA599EA9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09171-1F3F-4377-BA69-B8AE64C65C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D67CC-779E-4874-A39C-FBAE601F3C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C4CE3-0F8E-44DA-89BB-9F14CF5DEC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FCCE0-2823-421C-AB91-057FD1FAC6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e sleutel tot succes om met iedereen samen te werken aan hetzelfde doel: overheden, industrie, academici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822EE-87B9-4A8C-BF23-809AEAC037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8DE-BD02-4B03-8FC6-02DC9C75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4EE-4CA5-4DBE-B823-EDD380B1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FDD0F-8DED-4F10-A656-A3E5E7DA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B55DF-52C3-4F83-B197-5D93E6E3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DBBF8-7373-4FCF-A7CB-00C0A63A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93807-95BA-4B72-9C72-7AB32216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43E73-0F8C-4990-BA12-78B2CA74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AF29F-E3A3-419A-9FDF-0F6DCD39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777F8-7521-4605-8F80-9B0E0383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8E390-B994-4EF3-845D-9F541A86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32F25-16D3-4EA5-98B5-DDBA4660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9129B-9BC0-47A5-A8E8-798B2095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FB0-CA55-4F58-8002-AEE7F5A1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4B319-092A-46F0-BCD8-B6971DF1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4580A-EC8F-472F-B62D-5B31CF5E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C92D9-0975-496A-944C-C9140D48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2DCB0-8BAB-48FC-B6D9-E9780C59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2BB54-626E-4AB2-94DD-88CCEC43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7B703-F814-471A-AA81-F674A969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E2EBC-362D-4438-994E-EC25901E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D7F0A-D918-4ACC-B283-70022DA1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C3229-EA05-42F0-AFF0-F3E7C2B3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3B62E-7933-4162-B646-45FB3278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A5A-A1FB-45C7-9103-40E54EB0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22C87-71F5-4745-B4B7-3B97E35F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34541-1798-4179-9E51-CF9AE9F8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F4EC5-661E-4B4E-936C-1FF648B0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93AA1-0533-427D-B15B-6C243F9A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8FDFF-7CAD-40D4-8469-5BAAAC11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4F9C7-2823-4B08-9599-C17EE9A9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E31A2-8FBA-43CA-9404-8B5C0F93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E8E52-EC54-41FD-A7FA-BA4CB622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13BB7-3D5A-4852-8330-74A23AB0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B3147-43FD-4BD6-8858-F70365F2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1E30E-8F7A-497F-9A52-60F05888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ED526-5E38-4C33-8369-F7E2EF8B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8589E-4C83-4039-8AF8-62113949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D3209-E049-4A66-8B2F-03F78516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2275B-B1E1-41B3-9265-75E62223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9907A-E44F-4F50-8B6D-AE987244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697B6-A618-4274-AB1E-E8EEE4A1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0132E-018C-4115-B5E6-C3EB6866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7EC8F-4A5D-4CCD-B9A9-3F5A30EB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B4943-1F32-471B-A636-EFE26638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8526B-FB2F-4F61-AA75-50930954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38186-3C6D-4D7F-A4A6-18B7156D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5C9C7-D775-48F3-875E-1DF49198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EBF45-7036-4457-AAF4-60F8C6FE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48C8F-C252-4A76-BE77-83BD3234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192-DC0D-4AAE-AD60-CA0ABC07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1FFA-BECB-4071-B81F-AC0DE081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E531-09BB-4ABA-A456-32459A44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64B0-061D-4E02-99FC-4DE5CFA9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0BF8-C288-454E-B969-44B5BA02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4466-588F-40DC-B839-98F5C779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06E-0DB8-4F11-9AD4-0FDFF5A5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044A-516F-49C4-BB5F-5E227C19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EB57-C350-4B52-8A45-3A68D0D1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A9D0-E4EC-47EA-B527-D649C5C3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B0CA-2272-44AB-986C-5A58576D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C2A5-0F94-4F6E-8823-C582F2B4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BD79-8811-41EC-97E0-838B5C36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4ABD-08AA-4CC0-9795-DD1FB620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A686-5BD9-4000-B8C2-6F5CAC79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A0DD-5FD3-4EDE-AFED-652DDF52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2D69B-4C56-46F5-9148-B0EE4682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D17-E721-4EA2-86EC-C534FF01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FC7A-D8CD-42FA-B9C3-2D062A7F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F1642-3625-4AD8-A019-9D88AD1E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C56AD-E88C-4F6E-8FEF-0B97B858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34C3A-E2E2-411F-A05F-59956784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642BC-3EDD-497F-BE33-C852332D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5866-18F5-4754-A2E5-0A1F0AD6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2E51-05FF-402B-BE54-CF61D4DB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54F8A-A922-4044-9C29-BDB3498A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F71DF-380A-4054-B21C-683FC74F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1B17E-EB83-4225-BA74-581E3429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33A-0553-4500-9C19-5D20DE59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27216-1228-49EC-8E5F-6389F4F8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3AE0-7213-4AD4-8BDD-3C8F5B86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351A7-16D4-4AB5-ADF5-5C1B8913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C9D4C-CEDD-42D2-84D5-50E262DC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20259-B008-4029-9554-C867059F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FE3D-A8D5-4551-BBC5-60CBDE03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8F0C-598A-4B7E-BA57-B672A3F7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17CC-125B-4622-9E77-D88312DF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0AA2D-17F1-4235-AC04-9F67318F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7EAD3-BF47-4E9E-8CC4-9A0F49B5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D34-45A1-4EDD-ABE8-E25B19E7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9006A-05E5-4208-922E-F1BAFAF6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B7C2F-361D-46FD-94F6-62F03A38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8333F-6825-4060-A944-40795947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EB555-2216-42CD-B33B-4C23AB2F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FCCAE-FDD9-4CB9-BF77-A7DCD90D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F1419-BA18-45B3-A485-A48FF63F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7F6D8-56C2-4592-8E28-5BB34955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A70F8-E929-472D-B197-B70D38C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38588-684F-4331-9D4D-1D68CAD5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A5C48-AD53-4809-B05C-823334D1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CB3-44AC-4E07-8E80-261F714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9BCD3-E16C-4FA8-A291-0EC53F67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7D601-2181-4516-8751-8DA39ADE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39567-BB0A-4732-B2FF-64E92D7D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A5A37-9251-459F-A1ED-FDCB6F5C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9752D-05D8-4D5B-A870-41E46266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7C766-12EC-457E-97A2-0A4D3341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24C71-7C72-4D74-B7D9-C1A83870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60F47-2DC4-4D6F-BD67-8E166FC9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A4656-465A-441D-81E4-1BBBB155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4E18-3783-4923-9441-3BCEFF46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D63-E7C7-43B2-982B-5270F98E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E3D5A-549E-4A69-94A7-41968281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6F5D7-5633-4822-8D88-3B477488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1D02D-DBE0-4D5F-96B5-86436B54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F37CB-E49D-40B9-A854-E259C4C5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046DF-6A08-44AB-B6C2-66EA05F7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0C855-3F82-46D4-8334-1551D332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0EEDE-9D47-4747-B0D5-A56A788B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4DF08-09BE-4264-8D50-7EE3AA09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D9094-BFE4-4BE0-A1AB-FDFA466B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A7D8-58F6-4442-9F1C-5E6114F4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39A-6F87-40C6-9BE7-ACB02945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F369A-F283-4370-A0D2-F590583C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65C09-35E3-46D4-8F62-7537E0EC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1D404-21B4-43C2-9F62-4C2EB26E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AFD3D-CAD0-4357-AA27-FF71CC26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780720"/>
            <a:ext cx="822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5C54E-89E4-4D4C-BCCD-3A1808F6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780720"/>
            <a:ext cx="40158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2EA17-66B7-487F-AB6C-C7BC2933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780720"/>
            <a:ext cx="264960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1E1D5-A99D-4D79-B83C-09862E79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D0176-A598-4427-9586-212341B6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82518-C940-4C31-8C50-4EE9E71A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11B2E-9B3C-4D37-905F-4228459A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68400" y="6356520"/>
            <a:ext cx="34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86040" y="6356520"/>
            <a:ext cx="90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03479-477B-41E7-A2E8-378863233784}" type="slidenum">
              <a:rPr b="0" lang="fr-FR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 6" descr=""/>
          <p:cNvPicPr/>
          <p:nvPr/>
        </p:nvPicPr>
        <p:blipFill>
          <a:blip r:embed="rId2"/>
          <a:stretch/>
        </p:blipFill>
        <p:spPr>
          <a:xfrm>
            <a:off x="7343640" y="6062760"/>
            <a:ext cx="168912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Image 6" descr=""/>
          <p:cNvPicPr/>
          <p:nvPr/>
        </p:nvPicPr>
        <p:blipFill>
          <a:blip r:embed="rId2"/>
          <a:stretch/>
        </p:blipFill>
        <p:spPr>
          <a:xfrm>
            <a:off x="7343640" y="6062760"/>
            <a:ext cx="1689120" cy="755640"/>
          </a:xfrm>
          <a:prstGeom prst="rect">
            <a:avLst/>
          </a:prstGeom>
          <a:ln w="0">
            <a:noFill/>
          </a:ln>
        </p:spPr>
      </p:pic>
      <p:sp>
        <p:nvSpPr>
          <p:cNvPr id="392" name="Connecteur droit 8"/>
          <p:cNvSpPr/>
          <p:nvPr/>
        </p:nvSpPr>
        <p:spPr>
          <a:xfrm>
            <a:off x="1792440" y="5367240"/>
            <a:ext cx="5497200" cy="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768400" y="6356520"/>
            <a:ext cx="34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386040" y="6356520"/>
            <a:ext cx="90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C8A5A-AD04-4139-81BA-9DAC8754451A}" type="slidenum">
              <a:rPr b="0" lang="fr-FR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Image 6" descr=""/>
          <p:cNvPicPr/>
          <p:nvPr/>
        </p:nvPicPr>
        <p:blipFill>
          <a:blip r:embed="rId2"/>
          <a:stretch/>
        </p:blipFill>
        <p:spPr>
          <a:xfrm>
            <a:off x="7343640" y="6062760"/>
            <a:ext cx="1689120" cy="755640"/>
          </a:xfrm>
          <a:prstGeom prst="rect">
            <a:avLst/>
          </a:prstGeom>
          <a:ln w="0">
            <a:noFill/>
          </a:ln>
        </p:spPr>
      </p:pic>
      <p:sp>
        <p:nvSpPr>
          <p:cNvPr id="435" name="Connecteur droit 8"/>
          <p:cNvSpPr/>
          <p:nvPr/>
        </p:nvSpPr>
        <p:spPr>
          <a:xfrm>
            <a:off x="334800" y="1116000"/>
            <a:ext cx="8474400" cy="144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2768400" y="6356520"/>
            <a:ext cx="34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386040" y="6356520"/>
            <a:ext cx="90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418CD-F28E-4EEE-A461-B6A3E1A6B399}" type="slidenum">
              <a:rPr b="0" lang="fr-FR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Image 6" descr=""/>
          <p:cNvPicPr/>
          <p:nvPr/>
        </p:nvPicPr>
        <p:blipFill>
          <a:blip r:embed="rId2"/>
          <a:stretch/>
        </p:blipFill>
        <p:spPr>
          <a:xfrm>
            <a:off x="7343640" y="6062760"/>
            <a:ext cx="1689120" cy="755640"/>
          </a:xfrm>
          <a:prstGeom prst="rect">
            <a:avLst/>
          </a:prstGeom>
          <a:ln w="0">
            <a:noFill/>
          </a:ln>
        </p:spPr>
      </p:pic>
      <p:sp>
        <p:nvSpPr>
          <p:cNvPr id="478" name="Connecteur droit 8"/>
          <p:cNvSpPr/>
          <p:nvPr/>
        </p:nvSpPr>
        <p:spPr>
          <a:xfrm flipV="1">
            <a:off x="6878520" y="274680"/>
            <a:ext cx="0" cy="585144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2768400" y="6356520"/>
            <a:ext cx="34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386040" y="6356520"/>
            <a:ext cx="90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452A0-A7AB-4AD8-B616-1FC31D386935}" type="slidenum">
              <a:rPr b="0" lang="fr-FR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6" descr=""/>
          <p:cNvPicPr/>
          <p:nvPr/>
        </p:nvPicPr>
        <p:blipFill>
          <a:blip r:embed="rId2"/>
          <a:stretch/>
        </p:blipFill>
        <p:spPr>
          <a:xfrm>
            <a:off x="7343640" y="6062760"/>
            <a:ext cx="1689120" cy="755640"/>
          </a:xfrm>
          <a:prstGeom prst="rect">
            <a:avLst/>
          </a:prstGeom>
          <a:ln w="0">
            <a:noFill/>
          </a:ln>
        </p:spPr>
      </p:pic>
      <p:pic>
        <p:nvPicPr>
          <p:cNvPr id="43" name="Afbeelding 7" descr="zzz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4" name="ZoneTexte 7"/>
          <p:cNvSpPr/>
          <p:nvPr/>
        </p:nvSpPr>
        <p:spPr>
          <a:xfrm>
            <a:off x="901800" y="3606840"/>
            <a:ext cx="70866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0" spc="-1" strike="noStrike" baseline="30000">
                <a:solidFill>
                  <a:srgbClr val="ffffff"/>
                </a:solidFill>
                <a:latin typeface="Calibri"/>
              </a:rPr>
              <a:t>Tit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9"/>
          <p:cNvSpPr/>
          <p:nvPr/>
        </p:nvSpPr>
        <p:spPr>
          <a:xfrm>
            <a:off x="1000080" y="3086280"/>
            <a:ext cx="255600" cy="26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0"/>
          <p:cNvSpPr/>
          <p:nvPr/>
        </p:nvSpPr>
        <p:spPr>
          <a:xfrm>
            <a:off x="7851600" y="3078000"/>
            <a:ext cx="255600" cy="26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6" descr=""/>
          <p:cNvPicPr/>
          <p:nvPr/>
        </p:nvPicPr>
        <p:blipFill>
          <a:blip r:embed="rId2"/>
          <a:stretch/>
        </p:blipFill>
        <p:spPr>
          <a:xfrm>
            <a:off x="7343640" y="6062760"/>
            <a:ext cx="1689120" cy="755640"/>
          </a:xfrm>
          <a:prstGeom prst="rect">
            <a:avLst/>
          </a:prstGeom>
          <a:ln w="0">
            <a:noFill/>
          </a:ln>
        </p:spPr>
      </p:pic>
      <p:sp>
        <p:nvSpPr>
          <p:cNvPr id="86" name="Connecteur droit 6"/>
          <p:cNvSpPr/>
          <p:nvPr/>
        </p:nvSpPr>
        <p:spPr>
          <a:xfrm>
            <a:off x="403200" y="1127160"/>
            <a:ext cx="8337600" cy="144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necteur droit 7"/>
          <p:cNvSpPr/>
          <p:nvPr/>
        </p:nvSpPr>
        <p:spPr>
          <a:xfrm>
            <a:off x="403200" y="5919840"/>
            <a:ext cx="8337600" cy="144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334800" y="1127160"/>
            <a:ext cx="8487000" cy="4792680"/>
          </a:xfrm>
          <a:prstGeom prst="rect">
            <a:avLst/>
          </a:prstGeom>
          <a:solidFill>
            <a:srgbClr val="0092d2"/>
          </a:solidFill>
          <a:ln w="9360">
            <a:solidFill>
              <a:srgbClr val="009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2768400" y="6356520"/>
            <a:ext cx="34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386040" y="6356520"/>
            <a:ext cx="90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41E46-3914-449C-B177-050677CA2090}" type="slidenum">
              <a:rPr b="0" lang="fr-FR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 6" descr=""/>
          <p:cNvPicPr/>
          <p:nvPr/>
        </p:nvPicPr>
        <p:blipFill>
          <a:blip r:embed="rId2"/>
          <a:stretch/>
        </p:blipFill>
        <p:spPr>
          <a:xfrm>
            <a:off x="7343640" y="6062760"/>
            <a:ext cx="1689120" cy="755640"/>
          </a:xfrm>
          <a:prstGeom prst="rect">
            <a:avLst/>
          </a:prstGeom>
          <a:ln w="0">
            <a:noFill/>
          </a:ln>
        </p:spPr>
      </p:pic>
      <p:sp>
        <p:nvSpPr>
          <p:cNvPr id="131" name="Connecteur droit 8"/>
          <p:cNvSpPr/>
          <p:nvPr/>
        </p:nvSpPr>
        <p:spPr>
          <a:xfrm>
            <a:off x="334800" y="1116000"/>
            <a:ext cx="8474400" cy="144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onnecteur droit 9"/>
          <p:cNvSpPr/>
          <p:nvPr/>
        </p:nvSpPr>
        <p:spPr>
          <a:xfrm>
            <a:off x="304920" y="6102360"/>
            <a:ext cx="8515080" cy="144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768400" y="6356520"/>
            <a:ext cx="34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386040" y="6356520"/>
            <a:ext cx="90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A6C91-6C75-4289-974D-F794C1CE07F1}" type="slidenum">
              <a:rPr b="0" lang="fr-FR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age 6" descr=""/>
          <p:cNvPicPr/>
          <p:nvPr/>
        </p:nvPicPr>
        <p:blipFill>
          <a:blip r:embed="rId2"/>
          <a:stretch/>
        </p:blipFill>
        <p:spPr>
          <a:xfrm>
            <a:off x="7343640" y="6062760"/>
            <a:ext cx="1689120" cy="755640"/>
          </a:xfrm>
          <a:prstGeom prst="rect">
            <a:avLst/>
          </a:prstGeom>
          <a:ln w="0">
            <a:noFill/>
          </a:ln>
        </p:spPr>
      </p:pic>
      <p:sp>
        <p:nvSpPr>
          <p:cNvPr id="175" name="Connecteur droit 8"/>
          <p:cNvSpPr/>
          <p:nvPr/>
        </p:nvSpPr>
        <p:spPr>
          <a:xfrm>
            <a:off x="722160" y="4308480"/>
            <a:ext cx="7772400" cy="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2768400" y="6356520"/>
            <a:ext cx="34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386040" y="6356520"/>
            <a:ext cx="90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A6E66-F096-4D62-B427-2C0C93E1C768}" type="slidenum">
              <a:rPr b="0" lang="fr-FR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e 6" descr=""/>
          <p:cNvPicPr/>
          <p:nvPr/>
        </p:nvPicPr>
        <p:blipFill>
          <a:blip r:embed="rId2"/>
          <a:stretch/>
        </p:blipFill>
        <p:spPr>
          <a:xfrm>
            <a:off x="7343640" y="6062760"/>
            <a:ext cx="1689120" cy="755640"/>
          </a:xfrm>
          <a:prstGeom prst="rect">
            <a:avLst/>
          </a:prstGeom>
          <a:ln w="0">
            <a:noFill/>
          </a:ln>
        </p:spPr>
      </p:pic>
      <p:sp>
        <p:nvSpPr>
          <p:cNvPr id="218" name="Connecteur droit 8"/>
          <p:cNvSpPr/>
          <p:nvPr/>
        </p:nvSpPr>
        <p:spPr>
          <a:xfrm>
            <a:off x="334800" y="1116000"/>
            <a:ext cx="8474400" cy="144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onnecteur droit 9"/>
          <p:cNvSpPr/>
          <p:nvPr/>
        </p:nvSpPr>
        <p:spPr>
          <a:xfrm>
            <a:off x="304920" y="6102360"/>
            <a:ext cx="8515080" cy="144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2768400" y="6356520"/>
            <a:ext cx="34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386040" y="6356520"/>
            <a:ext cx="90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A524A-594E-46EC-A9D2-04C0E314914C}" type="slidenum">
              <a:rPr b="0" lang="fr-FR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e 6" descr=""/>
          <p:cNvPicPr/>
          <p:nvPr/>
        </p:nvPicPr>
        <p:blipFill>
          <a:blip r:embed="rId2"/>
          <a:stretch/>
        </p:blipFill>
        <p:spPr>
          <a:xfrm>
            <a:off x="7343640" y="6062760"/>
            <a:ext cx="1689120" cy="755640"/>
          </a:xfrm>
          <a:prstGeom prst="rect">
            <a:avLst/>
          </a:prstGeom>
          <a:ln w="0">
            <a:noFill/>
          </a:ln>
        </p:spPr>
      </p:pic>
      <p:sp>
        <p:nvSpPr>
          <p:cNvPr id="262" name="Connecteur droit 9"/>
          <p:cNvSpPr/>
          <p:nvPr/>
        </p:nvSpPr>
        <p:spPr>
          <a:xfrm>
            <a:off x="304920" y="6102360"/>
            <a:ext cx="8515080" cy="144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onnecteur droit 8"/>
          <p:cNvSpPr/>
          <p:nvPr/>
        </p:nvSpPr>
        <p:spPr>
          <a:xfrm>
            <a:off x="334800" y="1116000"/>
            <a:ext cx="8474400" cy="144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768400" y="6356520"/>
            <a:ext cx="34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386040" y="6356520"/>
            <a:ext cx="90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BDC82-0C7B-4521-A0F3-8C1FD7F01568}" type="slidenum">
              <a:rPr b="0" lang="fr-FR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e 6" descr=""/>
          <p:cNvPicPr/>
          <p:nvPr/>
        </p:nvPicPr>
        <p:blipFill>
          <a:blip r:embed="rId2"/>
          <a:stretch/>
        </p:blipFill>
        <p:spPr>
          <a:xfrm>
            <a:off x="7343640" y="6062760"/>
            <a:ext cx="1689120" cy="755640"/>
          </a:xfrm>
          <a:prstGeom prst="rect">
            <a:avLst/>
          </a:prstGeom>
          <a:ln w="0">
            <a:noFill/>
          </a:ln>
        </p:spPr>
      </p:pic>
      <p:sp>
        <p:nvSpPr>
          <p:cNvPr id="306" name="Connecteur droit 8"/>
          <p:cNvSpPr/>
          <p:nvPr/>
        </p:nvSpPr>
        <p:spPr>
          <a:xfrm>
            <a:off x="334800" y="1116000"/>
            <a:ext cx="8474400" cy="144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2768400" y="6356520"/>
            <a:ext cx="34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6386040" y="6356520"/>
            <a:ext cx="90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55799-C020-41D9-8427-C92179D82C75}" type="slidenum">
              <a:rPr b="0" lang="fr-FR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Image 6" descr=""/>
          <p:cNvPicPr/>
          <p:nvPr/>
        </p:nvPicPr>
        <p:blipFill>
          <a:blip r:embed="rId2"/>
          <a:stretch/>
        </p:blipFill>
        <p:spPr>
          <a:xfrm>
            <a:off x="7343640" y="6062760"/>
            <a:ext cx="1689120" cy="755640"/>
          </a:xfrm>
          <a:prstGeom prst="rect">
            <a:avLst/>
          </a:prstGeom>
          <a:ln w="0">
            <a:noFill/>
          </a:ln>
        </p:spPr>
      </p:pic>
      <p:sp>
        <p:nvSpPr>
          <p:cNvPr id="349" name="Connecteur droit 8"/>
          <p:cNvSpPr/>
          <p:nvPr/>
        </p:nvSpPr>
        <p:spPr>
          <a:xfrm>
            <a:off x="457200" y="1433520"/>
            <a:ext cx="3008160" cy="0"/>
          </a:xfrm>
          <a:prstGeom prst="line">
            <a:avLst/>
          </a:prstGeom>
          <a:ln w="180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254061"/>
                </a:solidFill>
                <a:latin typeface="Calibri"/>
              </a:rPr>
              <a:t>Click to edit the title text format</a:t>
            </a:r>
            <a:endParaRPr b="1" lang="en-US" sz="6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768400" y="6356520"/>
            <a:ext cx="34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6386040" y="6356520"/>
            <a:ext cx="90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4469A-19D1-45FB-85D7-EF66F71D1556}" type="slidenum">
              <a:rPr b="0" lang="fr-FR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27080" y="3263760"/>
            <a:ext cx="71820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nl-BE" sz="4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i="1" lang="nl-BE" sz="3600" spc="-1" strike="noStrike" baseline="70000">
                <a:solidFill>
                  <a:srgbClr val="c00000"/>
                </a:solidFill>
                <a:latin typeface="Calibri"/>
              </a:rPr>
              <a:t>nd</a:t>
            </a:r>
            <a:r>
              <a:rPr b="1" i="1" lang="nl-BE" sz="4800" spc="-1" strike="noStrike" baseline="50000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n-GB" sz="4800" spc="-1" strike="noStrike">
                <a:solidFill>
                  <a:srgbClr val="c00000"/>
                </a:solidFill>
                <a:latin typeface="Calibri"/>
              </a:rPr>
              <a:t>POLITICAL DECLARATION PENTALATERAL ENERGY FORUM</a:t>
            </a:r>
            <a:br>
              <a:rPr sz="4800"/>
            </a:br>
            <a:r>
              <a:rPr b="1" lang="en-GB" sz="3200" spc="-1" strike="noStrike">
                <a:solidFill>
                  <a:srgbClr val="254061"/>
                </a:solidFill>
                <a:latin typeface="Calibri"/>
              </a:rPr>
              <a:t>28</a:t>
            </a:r>
            <a:r>
              <a:rPr b="1" lang="en-GB" sz="3200" spc="-1" strike="noStrike" baseline="50000">
                <a:solidFill>
                  <a:srgbClr val="254061"/>
                </a:solidFill>
                <a:latin typeface="Calibri"/>
              </a:rPr>
              <a:t>th</a:t>
            </a:r>
            <a:r>
              <a:rPr b="1" lang="en-GB" sz="3200" spc="-1" strike="noStrike">
                <a:solidFill>
                  <a:srgbClr val="254061"/>
                </a:solidFill>
                <a:latin typeface="Calibri"/>
              </a:rPr>
              <a:t> Florence Forum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254061"/>
                </a:solidFill>
                <a:latin typeface="Calibri"/>
              </a:rPr>
              <a:t> Friday 5</a:t>
            </a:r>
            <a:r>
              <a:rPr b="1" lang="en-GB" sz="3200" spc="-1" strike="noStrike" baseline="50000">
                <a:solidFill>
                  <a:srgbClr val="254061"/>
                </a:solidFill>
                <a:latin typeface="Calibri"/>
              </a:rPr>
              <a:t>th</a:t>
            </a:r>
            <a:r>
              <a:rPr b="1" lang="en-GB" sz="3200" spc="-1" strike="noStrike">
                <a:solidFill>
                  <a:srgbClr val="254061"/>
                </a:solidFill>
                <a:latin typeface="Calibri"/>
              </a:rPr>
              <a:t> June 2015</a:t>
            </a:r>
            <a:br>
              <a:rPr sz="3200"/>
            </a:br>
            <a:endParaRPr b="1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28" name="ZoneTexte 3"/>
          <p:cNvSpPr/>
          <p:nvPr/>
        </p:nvSpPr>
        <p:spPr>
          <a:xfrm>
            <a:off x="4618080" y="20224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800" spc="-1" strike="noStrike">
                <a:solidFill>
                  <a:srgbClr val="00344f"/>
                </a:solidFill>
                <a:latin typeface="Calibri"/>
              </a:rPr>
              <a:t>SECRETARIAAT-GENER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800" spc="-1" strike="noStrike">
                <a:solidFill>
                  <a:srgbClr val="00344f"/>
                </a:solidFill>
                <a:latin typeface="Calibri"/>
              </a:rPr>
              <a:t>SECRÉTARIAT GÉNÉ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70000" y="274320"/>
            <a:ext cx="8648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5400" spc="-1" strike="noStrike">
                <a:solidFill>
                  <a:srgbClr val="c00000"/>
                </a:solidFill>
                <a:latin typeface="Calibri"/>
              </a:rPr>
              <a:t>Pentalateral Energy Forum</a:t>
            </a:r>
            <a:endParaRPr b="1" lang="en-US" sz="54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530" name="Afbeelding 2" descr="%7BDC6163F4-CAE0-4950-A360-348A8AF35921%7D[1].jpg"/>
          <p:cNvPicPr/>
          <p:nvPr/>
        </p:nvPicPr>
        <p:blipFill>
          <a:blip r:embed="rId1"/>
          <a:stretch/>
        </p:blipFill>
        <p:spPr>
          <a:xfrm>
            <a:off x="368280" y="1185840"/>
            <a:ext cx="2801880" cy="2102040"/>
          </a:xfrm>
          <a:prstGeom prst="rect">
            <a:avLst/>
          </a:prstGeom>
          <a:ln w="0">
            <a:noFill/>
          </a:ln>
        </p:spPr>
      </p:pic>
      <p:pic>
        <p:nvPicPr>
          <p:cNvPr id="531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0" y="3249720"/>
            <a:ext cx="3760920" cy="2749320"/>
          </a:xfrm>
          <a:prstGeom prst="rect">
            <a:avLst/>
          </a:prstGeom>
          <a:ln w="0">
            <a:noFill/>
          </a:ln>
        </p:spPr>
      </p:pic>
      <p:sp>
        <p:nvSpPr>
          <p:cNvPr id="532" name="Rechthoek 21"/>
          <p:cNvSpPr/>
          <p:nvPr/>
        </p:nvSpPr>
        <p:spPr>
          <a:xfrm>
            <a:off x="4114800" y="2125800"/>
            <a:ext cx="47242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254061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254061"/>
                </a:solidFill>
                <a:latin typeface="Calibri"/>
                <a:ea typeface="Arial"/>
              </a:rPr>
              <a:t>… </a:t>
            </a:r>
            <a:r>
              <a:rPr b="0" lang="en-GB" sz="2400" spc="-1" strike="noStrike">
                <a:solidFill>
                  <a:srgbClr val="254061"/>
                </a:solidFill>
                <a:latin typeface="Calibri"/>
                <a:ea typeface="Arial"/>
              </a:rPr>
              <a:t>whereby Ministers of Energy give political backing to a process of regional integrati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hthoek 22"/>
          <p:cNvSpPr/>
          <p:nvPr/>
        </p:nvSpPr>
        <p:spPr>
          <a:xfrm>
            <a:off x="4114800" y="3405240"/>
            <a:ext cx="47242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254061"/>
                </a:solidFill>
                <a:latin typeface="Calibri"/>
                <a:ea typeface="Arial"/>
              </a:rPr>
              <a:t>… </a:t>
            </a:r>
            <a:r>
              <a:rPr b="0" lang="en-GB" sz="2400" spc="-1" strike="noStrike">
                <a:solidFill>
                  <a:srgbClr val="254061"/>
                </a:solidFill>
                <a:latin typeface="Calibri"/>
                <a:ea typeface="Arial"/>
              </a:rPr>
              <a:t>as an intermediate step towards EU energy marke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hthoek 23"/>
          <p:cNvSpPr/>
          <p:nvPr/>
        </p:nvSpPr>
        <p:spPr>
          <a:xfrm>
            <a:off x="4114800" y="4330800"/>
            <a:ext cx="47242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254061"/>
                </a:solidFill>
                <a:latin typeface="Calibri"/>
                <a:ea typeface="Arial"/>
              </a:rPr>
              <a:t>… </a:t>
            </a:r>
            <a:r>
              <a:rPr b="0" lang="en-GB" sz="2400" spc="-1" strike="noStrike">
                <a:solidFill>
                  <a:srgbClr val="254061"/>
                </a:solidFill>
                <a:latin typeface="Calibri"/>
                <a:ea typeface="Arial"/>
              </a:rPr>
              <a:t>close involvement of TSOs, NRAs, PXs and market parti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hthoek 24"/>
          <p:cNvSpPr/>
          <p:nvPr/>
        </p:nvSpPr>
        <p:spPr>
          <a:xfrm>
            <a:off x="4114800" y="5232240"/>
            <a:ext cx="47242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254061"/>
                </a:solidFill>
                <a:latin typeface="Calibri"/>
                <a:ea typeface="Arial"/>
              </a:rPr>
              <a:t>… </a:t>
            </a:r>
            <a:r>
              <a:rPr b="0" lang="en-GB" sz="2400" spc="-1" strike="noStrike">
                <a:solidFill>
                  <a:srgbClr val="254061"/>
                </a:solidFill>
                <a:latin typeface="Calibri"/>
                <a:ea typeface="Arial"/>
              </a:rPr>
              <a:t>Benelux-secretariat to assure continuity of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hthoek 8"/>
          <p:cNvSpPr/>
          <p:nvPr/>
        </p:nvSpPr>
        <p:spPr>
          <a:xfrm>
            <a:off x="4114800" y="1227240"/>
            <a:ext cx="47242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254061"/>
                </a:solidFill>
                <a:latin typeface="Calibri"/>
                <a:ea typeface="Arial"/>
              </a:rPr>
              <a:t>= Intergovernmental initiative between BE-NE-LUX-FR-DE-AT-C</a:t>
            </a:r>
            <a:r>
              <a:rPr b="0" lang="nl-BE" sz="2400" spc="-1" strike="noStrike">
                <a:solidFill>
                  <a:srgbClr val="254061"/>
                </a:solidFill>
                <a:latin typeface="Calibri"/>
                <a:ea typeface="Arial"/>
              </a:rPr>
              <a:t>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Afbeelding 9" descr="CWE coupling.gif"/>
          <p:cNvPicPr/>
          <p:nvPr/>
        </p:nvPicPr>
        <p:blipFill>
          <a:blip r:embed="rId1"/>
          <a:stretch/>
        </p:blipFill>
        <p:spPr>
          <a:xfrm>
            <a:off x="1671480" y="1177920"/>
            <a:ext cx="2084400" cy="185724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c00000"/>
                </a:solidFill>
                <a:latin typeface="Calibri"/>
              </a:rPr>
              <a:t>… </a:t>
            </a:r>
            <a:r>
              <a:rPr b="0" lang="en-GB" sz="5400" spc="-1" strike="noStrike">
                <a:solidFill>
                  <a:srgbClr val="c00000"/>
                </a:solidFill>
                <a:latin typeface="Calibri"/>
              </a:rPr>
              <a:t>Pentalateral market integration</a:t>
            </a:r>
            <a:endParaRPr b="1" lang="en-US" sz="5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39" name="PIJL-RECHTS 6"/>
          <p:cNvSpPr/>
          <p:nvPr/>
        </p:nvSpPr>
        <p:spPr>
          <a:xfrm>
            <a:off x="285840" y="3270240"/>
            <a:ext cx="8501040" cy="42876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hte verbindingslijn 9"/>
          <p:cNvSpPr/>
          <p:nvPr/>
        </p:nvSpPr>
        <p:spPr>
          <a:xfrm flipH="1">
            <a:off x="998640" y="3198960"/>
            <a:ext cx="1440" cy="571320"/>
          </a:xfrm>
          <a:prstGeom prst="line">
            <a:avLst/>
          </a:prstGeom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hte verbindingslijn 11"/>
          <p:cNvSpPr/>
          <p:nvPr/>
        </p:nvSpPr>
        <p:spPr>
          <a:xfrm flipH="1">
            <a:off x="2712600" y="3198960"/>
            <a:ext cx="1800" cy="571320"/>
          </a:xfrm>
          <a:prstGeom prst="line">
            <a:avLst/>
          </a:prstGeom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hte verbindingslijn 12"/>
          <p:cNvSpPr/>
          <p:nvPr/>
        </p:nvSpPr>
        <p:spPr>
          <a:xfrm flipH="1">
            <a:off x="4427640" y="3198960"/>
            <a:ext cx="1440" cy="571320"/>
          </a:xfrm>
          <a:prstGeom prst="line">
            <a:avLst/>
          </a:prstGeom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hte verbindingslijn 13"/>
          <p:cNvSpPr/>
          <p:nvPr/>
        </p:nvSpPr>
        <p:spPr>
          <a:xfrm flipH="1">
            <a:off x="6141600" y="3198960"/>
            <a:ext cx="1800" cy="571320"/>
          </a:xfrm>
          <a:prstGeom prst="line">
            <a:avLst/>
          </a:prstGeom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oelichting met PIJL-OMHOOG 16"/>
          <p:cNvSpPr/>
          <p:nvPr/>
        </p:nvSpPr>
        <p:spPr>
          <a:xfrm>
            <a:off x="214200" y="4000680"/>
            <a:ext cx="1571760" cy="1285560"/>
          </a:xfrm>
          <a:prstGeom prst="upArrowCallout">
            <a:avLst>
              <a:gd name="adj1" fmla="val 25009"/>
              <a:gd name="adj2" fmla="val 25007"/>
              <a:gd name="adj3" fmla="val 25000"/>
              <a:gd name="adj4" fmla="val 70041"/>
            </a:avLst>
          </a:prstGeom>
          <a:gradFill rotWithShape="0">
            <a:gsLst>
              <a:gs pos="0">
                <a:srgbClr val="17375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1800" spc="-1" strike="noStrike">
                <a:solidFill>
                  <a:srgbClr val="ffc000"/>
                </a:solidFill>
                <a:latin typeface="Calibri"/>
              </a:rPr>
              <a:t>2005: PENTALATERAL ENERGY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oelichting met PIJL-OMHOOG 17"/>
          <p:cNvSpPr/>
          <p:nvPr/>
        </p:nvSpPr>
        <p:spPr>
          <a:xfrm>
            <a:off x="1928880" y="4000680"/>
            <a:ext cx="1571400" cy="1285560"/>
          </a:xfrm>
          <a:prstGeom prst="upArrowCallout">
            <a:avLst>
              <a:gd name="adj1" fmla="val 25004"/>
              <a:gd name="adj2" fmla="val 25001"/>
              <a:gd name="adj3" fmla="val 25000"/>
              <a:gd name="adj4" fmla="val 70041"/>
            </a:avLst>
          </a:prstGeom>
          <a:gradFill rotWithShape="0">
            <a:gsLst>
              <a:gs pos="0">
                <a:srgbClr val="17375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1800" spc="-1" strike="noStrike">
                <a:solidFill>
                  <a:srgbClr val="ffc000"/>
                </a:solidFill>
                <a:latin typeface="Calibri"/>
              </a:rPr>
              <a:t>2010: PENTA MARKET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oelichting met PIJL-OMHOOG 18"/>
          <p:cNvSpPr/>
          <p:nvPr/>
        </p:nvSpPr>
        <p:spPr>
          <a:xfrm>
            <a:off x="3643200" y="4000680"/>
            <a:ext cx="1571760" cy="1285560"/>
          </a:xfrm>
          <a:prstGeom prst="upArrowCallout">
            <a:avLst>
              <a:gd name="adj1" fmla="val 25009"/>
              <a:gd name="adj2" fmla="val 25007"/>
              <a:gd name="adj3" fmla="val 25000"/>
              <a:gd name="adj4" fmla="val 70041"/>
            </a:avLst>
          </a:prstGeom>
          <a:gradFill rotWithShape="0">
            <a:gsLst>
              <a:gs pos="0">
                <a:srgbClr val="17375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1800" spc="-1" strike="noStrike">
                <a:solidFill>
                  <a:srgbClr val="ffc000"/>
                </a:solidFill>
                <a:latin typeface="Calibri"/>
              </a:rPr>
              <a:t>2013: PENTA POLITICAL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oelichting met PIJL-OMHOOG 19"/>
          <p:cNvSpPr/>
          <p:nvPr/>
        </p:nvSpPr>
        <p:spPr>
          <a:xfrm>
            <a:off x="5357880" y="4000680"/>
            <a:ext cx="1571400" cy="1285560"/>
          </a:xfrm>
          <a:prstGeom prst="upArrowCallout">
            <a:avLst>
              <a:gd name="adj1" fmla="val 25004"/>
              <a:gd name="adj2" fmla="val 25001"/>
              <a:gd name="adj3" fmla="val 25000"/>
              <a:gd name="adj4" fmla="val 70041"/>
            </a:avLst>
          </a:prstGeom>
          <a:gradFill rotWithShape="0">
            <a:gsLst>
              <a:gs pos="0">
                <a:srgbClr val="17375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1800" spc="-1" strike="noStrike">
                <a:solidFill>
                  <a:srgbClr val="ffc000"/>
                </a:solidFill>
                <a:latin typeface="Calibri"/>
              </a:rPr>
              <a:t>2014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1800" spc="-1" strike="noStrike">
                <a:solidFill>
                  <a:srgbClr val="ffc000"/>
                </a:solidFill>
                <a:latin typeface="Calibri"/>
              </a:rPr>
              <a:t>NWE MARKET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oelichting met PIJL-OMHOOG 20"/>
          <p:cNvSpPr/>
          <p:nvPr/>
        </p:nvSpPr>
        <p:spPr>
          <a:xfrm>
            <a:off x="7143840" y="4000680"/>
            <a:ext cx="1571400" cy="1285560"/>
          </a:xfrm>
          <a:prstGeom prst="upArrowCallout">
            <a:avLst>
              <a:gd name="adj1" fmla="val 25004"/>
              <a:gd name="adj2" fmla="val 25001"/>
              <a:gd name="adj3" fmla="val 25000"/>
              <a:gd name="adj4" fmla="val 70041"/>
            </a:avLst>
          </a:prstGeom>
          <a:gradFill rotWithShape="0">
            <a:gsLst>
              <a:gs pos="0">
                <a:srgbClr val="17375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1800" spc="-1" strike="noStrike">
                <a:solidFill>
                  <a:srgbClr val="ffc000"/>
                </a:solidFill>
                <a:latin typeface="Calibri"/>
              </a:rPr>
              <a:t>PENTA FLOW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1800" spc="-1" strike="noStrike">
                <a:solidFill>
                  <a:srgbClr val="ffc000"/>
                </a:solidFill>
                <a:latin typeface="Calibri"/>
              </a:rPr>
              <a:t>INTRA-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http://networkcodes.entsoe.eu/wp-content/uploads/2014/02/NWE-map.png"/>
          <p:cNvPicPr/>
          <p:nvPr/>
        </p:nvPicPr>
        <p:blipFill>
          <a:blip r:embed="rId2"/>
          <a:stretch/>
        </p:blipFill>
        <p:spPr>
          <a:xfrm>
            <a:off x="6164280" y="1071720"/>
            <a:ext cx="2214720" cy="23749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7" descr="C:\Users\PB.BENELUX\AppData\Local\Temp\carte_full.jpg"/>
          <p:cNvPicPr/>
          <p:nvPr/>
        </p:nvPicPr>
        <p:blipFill>
          <a:blip r:embed="rId3"/>
          <a:stretch/>
        </p:blipFill>
        <p:spPr>
          <a:xfrm>
            <a:off x="160200" y="1143000"/>
            <a:ext cx="1393920" cy="18572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3" descr=""/>
          <p:cNvPicPr/>
          <p:nvPr/>
        </p:nvPicPr>
        <p:blipFill>
          <a:blip r:embed="rId4"/>
          <a:stretch/>
        </p:blipFill>
        <p:spPr>
          <a:xfrm>
            <a:off x="4035600" y="1143000"/>
            <a:ext cx="1636560" cy="1928880"/>
          </a:xfrm>
          <a:prstGeom prst="rect">
            <a:avLst/>
          </a:prstGeom>
          <a:ln w="0">
            <a:noFill/>
          </a:ln>
        </p:spPr>
      </p:pic>
      <p:sp>
        <p:nvSpPr>
          <p:cNvPr id="552" name="Rechte verbindingslijn 21"/>
          <p:cNvSpPr/>
          <p:nvPr/>
        </p:nvSpPr>
        <p:spPr>
          <a:xfrm flipH="1">
            <a:off x="7923240" y="3181320"/>
            <a:ext cx="1440" cy="571680"/>
          </a:xfrm>
          <a:prstGeom prst="line">
            <a:avLst/>
          </a:prstGeom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36520" y="331560"/>
            <a:ext cx="870264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First REGIONAL generation adequacy assessment report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236520" y="1301400"/>
            <a:ext cx="870264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Start: early 2014 - delivery March 2015 with Horizon: 2015/2016 and 2020/2021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 new methodology developed by the TSOs to better assess generation adequacy together on a regional scale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gional cooperation helps to ease national adequacy problems by sharing national forecast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Existing infrastructure already contributes significantly to regional Security of Supply, however, new infrastructure is welcome to allow additional regional exchanges between market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urrent level of integration needs to be further increased in order to address future adequacy concerns </a:t>
            </a:r>
            <a:r>
              <a:rPr b="0" lang="nl-NL" sz="2400" spc="-1" strike="noStrike">
                <a:solidFill>
                  <a:srgbClr val="1f497d"/>
                </a:solidFill>
                <a:latin typeface="Calibri"/>
              </a:rPr>
              <a:t>…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but further integration can alleviate these concerns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c00000"/>
                </a:solidFill>
                <a:latin typeface="Calibri"/>
              </a:rPr>
              <a:t>Challenges</a:t>
            </a:r>
            <a:endParaRPr b="1" lang="en-US" sz="5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84040" y="1228320"/>
            <a:ext cx="865512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urther refinements in the modelling are needed, e.g. how to involve demand side response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Develop a common understanding on adequacy indicators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Penta adequacy study is not a template but can serve as guidance to other regions…and maybe a stepping stone to further work in ENTSO-E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Penta adequacy study is a crucial first step towards a regional security of supply approach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1000" y="331560"/>
            <a:ext cx="849780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CWE Flow-Based Market Coupling</a:t>
            </a:r>
            <a:endParaRPr b="1" lang="en-US" sz="28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41360" y="1899720"/>
            <a:ext cx="870264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tart of TSO’s operational process (Flow-Based capacity calculation): 19 May 2015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irst trading day using Flow-Based parameters for coupling: 20 May 2015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rst delivery day: 21 May 2015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36520" y="331560"/>
            <a:ext cx="870264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Next phase:  Issues for a 2</a:t>
            </a:r>
            <a:r>
              <a:rPr b="0" lang="en-GB" sz="4000" spc="-1" strike="noStrike" baseline="60000">
                <a:solidFill>
                  <a:srgbClr val="c00000"/>
                </a:solidFill>
                <a:latin typeface="Calibri"/>
              </a:rPr>
              <a:t>nd</a:t>
            </a:r>
            <a:r>
              <a:rPr b="0" lang="en-GB" sz="4000" spc="-1" strike="noStrike" baseline="50000">
                <a:solidFill>
                  <a:srgbClr val="c000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Political Declaration</a:t>
            </a:r>
            <a:br>
              <a:rPr sz="2800"/>
            </a:br>
            <a:br>
              <a:rPr sz="2800"/>
            </a:br>
            <a:endParaRPr b="1" lang="en-US" sz="48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10880" y="1136160"/>
            <a:ext cx="903276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509400" indent="-344880">
              <a:lnSpc>
                <a:spcPct val="15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nl-NL" sz="2400" spc="-1" strike="noStrike">
                <a:solidFill>
                  <a:srgbClr val="002060"/>
                </a:solidFill>
                <a:latin typeface="Calibri"/>
              </a:rPr>
              <a:t>FBMC 2.0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509400" indent="-344880">
              <a:lnSpc>
                <a:spcPct val="15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Regular update of the Generation Adequacy Assessmen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509400" indent="-344880">
              <a:lnSpc>
                <a:spcPct val="15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Analysis of interaction between CRMs </a:t>
            </a:r>
            <a:r>
              <a:rPr b="1" lang="en-GB" sz="2400" spc="-1" strike="noStrike">
                <a:solidFill>
                  <a:srgbClr val="002060"/>
                </a:solidFill>
                <a:latin typeface="Calibri"/>
              </a:rPr>
              <a:t>-&gt; </a:t>
            </a: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cross border participation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509400" indent="-344880">
              <a:lnSpc>
                <a:spcPct val="15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Security of supply criterion or common indicator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509400" indent="-344880">
              <a:lnSpc>
                <a:spcPct val="15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ncrease flexibility in the market, by well-functioning integrated balancing markets, demand side response, storage, …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509400" indent="-344880">
              <a:lnSpc>
                <a:spcPct val="15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nl-BE" sz="2400" spc="-1" strike="noStrike">
                <a:solidFill>
                  <a:srgbClr val="002060"/>
                </a:solidFill>
                <a:latin typeface="Calibri"/>
              </a:rPr>
              <a:t>Integration of renewable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509400" indent="-344880">
              <a:lnSpc>
                <a:spcPct val="15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Governance of regional cooperation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509400" indent="-344880">
              <a:lnSpc>
                <a:spcPct val="15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Political alignment within Energy Union proces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236160" y="595080"/>
            <a:ext cx="87822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>
              <a:spcBef>
                <a:spcPts val="1026"/>
              </a:spcBef>
              <a:spcAft>
                <a:spcPts val="1026"/>
              </a:spcAft>
              <a:buClr>
                <a:srgbClr val="ffdd00"/>
              </a:buClr>
              <a:buSzPct val="90000"/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>
              <a:spcBef>
                <a:spcPts val="1026"/>
              </a:spcBef>
              <a:spcAft>
                <a:spcPts val="1026"/>
              </a:spcAft>
              <a:buClr>
                <a:srgbClr val="ffdd00"/>
              </a:buClr>
              <a:buSzPct val="90000"/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>
              <a:spcBef>
                <a:spcPts val="1026"/>
              </a:spcBef>
              <a:spcAft>
                <a:spcPts val="1026"/>
              </a:spcAft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Coming together is a beginning;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  <a:p>
            <a:pPr lvl="1">
              <a:spcBef>
                <a:spcPts val="1026"/>
              </a:spcBef>
              <a:spcAft>
                <a:spcPts val="1026"/>
              </a:spcAft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keeping together is progress;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  <a:p>
            <a:pPr lvl="1">
              <a:spcBef>
                <a:spcPts val="1026"/>
              </a:spcBef>
              <a:spcAft>
                <a:spcPts val="1026"/>
              </a:spcAft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working together is success</a:t>
            </a:r>
            <a:r>
              <a:rPr b="1" i="1" lang="en-US" sz="37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700" spc="-1" strike="noStrike">
              <a:solidFill>
                <a:srgbClr val="1f497d"/>
              </a:solidFill>
              <a:latin typeface="Calibri"/>
            </a:endParaRPr>
          </a:p>
          <a:p>
            <a:pPr lvl="1" algn="r">
              <a:spcBef>
                <a:spcPts val="1026"/>
              </a:spcBef>
              <a:spcAft>
                <a:spcPts val="1026"/>
              </a:spcAft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algn="r">
              <a:spcBef>
                <a:spcPts val="1026"/>
              </a:spcBef>
              <a:spcAft>
                <a:spcPts val="1026"/>
              </a:spcAft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Henry Ford”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03200" y="221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7200" spc="-1" strike="noStrike">
                <a:solidFill>
                  <a:srgbClr val="ffffff"/>
                </a:solidFill>
                <a:latin typeface="Calibri"/>
              </a:rPr>
              <a:t>Grazie – Thank you</a:t>
            </a:r>
            <a:br>
              <a:rPr sz="7200"/>
            </a:br>
            <a:r>
              <a:rPr b="1" lang="nl-BE" sz="4800" spc="-1" strike="noStrike">
                <a:solidFill>
                  <a:srgbClr val="ffffff"/>
                </a:solidFill>
                <a:latin typeface="Calibri"/>
              </a:rPr>
              <a:t>Jan Hensmans</a:t>
            </a:r>
            <a:br>
              <a:rPr sz="4800"/>
            </a:br>
            <a:r>
              <a:rPr b="1" lang="nl-BE" sz="4800" spc="-1" strike="noStrike">
                <a:solidFill>
                  <a:srgbClr val="ffffff"/>
                </a:solidFill>
                <a:latin typeface="Calibri"/>
              </a:rPr>
              <a:t>jan.hensmans@economie.fgov.be</a:t>
            </a:r>
            <a:endParaRPr b="1" lang="en-US" sz="48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563" name="Image 2" descr="H:\DIVERSEN\NIEUW LOGO\logo_SGbenelux.jpg"/>
          <p:cNvPicPr/>
          <p:nvPr/>
        </p:nvPicPr>
        <p:blipFill>
          <a:blip r:embed="rId1"/>
          <a:stretch/>
        </p:blipFill>
        <p:spPr>
          <a:xfrm>
            <a:off x="7353360" y="6013440"/>
            <a:ext cx="1523880" cy="817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3:27:08Z</dcterms:created>
  <dc:creator>F. Deloof</dc:creator>
  <dc:description/>
  <dc:language>en-US</dc:language>
  <cp:lastModifiedBy>HENSMANS Jan</cp:lastModifiedBy>
  <cp:lastPrinted>2014-11-18T10:02:48Z</cp:lastPrinted>
  <dcterms:modified xsi:type="dcterms:W3CDTF">2015-06-02T10:05:20Z</dcterms:modified>
  <cp:revision>140</cp:revision>
  <dc:subject/>
  <dc:title>Nscogi North Seas Countries’ Offshore Grid Initiative</dc:title>
</cp:coreProperties>
</file>